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B62-6E53-4AC4-B822-22F1E07B3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exams4u.com/2013/10/pedigree-chart-autosomal-dominant.html#.VD8qRRzs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gg.com/homework-help/questions-and-answers/attached-pedigree-chart-autosomal-recessive-condition-possible-please-state-specific-genot-q18036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mmons.wikimedia.org/wiki/File:Autosomal_Dominant_Pedigree_Chart2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tutorvista.com/cell/chromosom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bio2/notes_sexlinkag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wodocs.com/red-green-color-blind-tests/red-green-color-blindness-tes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exams4u.com/2013/10/pedigree-chart-autosomal-dominant.html#.VD8xPxzs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burchill.com/IBbiology/chapters03/00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gg.com/homework-help/questions-and-answers/attached-pedigree-chart-autosomal-recessive-condition-possible-please-state-specific-genot-q18036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A8E-6955-47AE-BC05-09664260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612-6BC2-4BD8-8FB6-B8C382AB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C7B-EE86-4D97-BC92-44F97B08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719-87F0-421E-8EB5-6BD72D2F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B7E-8791-4520-ACFF-A6C6F826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789-11B5-45BD-B775-A0679FA1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B85-314B-410B-B4BD-BFFC14E4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853-49DC-4151-876E-22D05D7A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F5C-751A-4D6E-9148-69E9ABAF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6B5-0D9C-486E-99EA-7854BE6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4EB-CA4B-433E-B9FD-7E7652D3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DD5-C857-4406-B84A-0CC3CAD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5563-36E6-4667-8FF9-EA538CF2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3 - Sex Link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ndi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so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ces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genotype of individual A?  Homozygous dominant or heterozygo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708200"/>
            <a:ext cx="38862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41320" y="1676520"/>
            <a:ext cx="5735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-linked 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genes on the X and Y 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pies of genes carried on the X chromosomes wou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m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?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genes on the Y chromos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2638440"/>
            <a:ext cx="38098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11280"/>
            <a:ext cx="77724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x linkage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-lin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its can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lin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ts that are found on other chromosomes are under the control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somal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ex-linked tra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-green colour 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-pattern bal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38200" y="304920"/>
            <a:ext cx="6191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3 - Pedigree Char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king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trace inheritance of a trait among members of a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75320" y="1981080"/>
            <a:ext cx="375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39720" y="609480"/>
            <a:ext cx="606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5:53Z</dcterms:created>
  <dc:creator>rubina khan</dc:creator>
  <dc:description/>
  <dc:language>en-US</dc:language>
  <cp:lastModifiedBy>rubina khan</cp:lastModifiedBy>
  <dcterms:modified xsi:type="dcterms:W3CDTF">2015-05-04T10:31:48Z</dcterms:modified>
  <cp:revision>95</cp:revision>
  <dc:subject/>
  <dc:title>Genetic Processes</dc:title>
</cp:coreProperties>
</file>